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AE0D-93ED-4A79-8052-602E9F9F55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383B-BC17-4B1E-89BA-E27213E180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A80D-5CE6-4794-9D88-702943B551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2547-7738-4791-AA43-ACFF43368D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27E-8670-4A83-AE37-1ACE03DD14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DF7-C47D-4120-A419-221EEBE783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975D-C931-4EBE-8236-221D46BBA2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43A5-BC8B-4EB1-ACA1-9F3201DB66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D1E3-8EAC-4D35-9080-9DB881954D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404C-2CA1-4AA5-AC07-968BBB67DB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2675-55FF-47DE-9D32-F24BB03CBD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D50-94BF-419B-B86F-BE77C3B4A8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7AC4-9E7F-42A7-9381-315B1A647B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302E-5004-4072-922E-3C0B5C3245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B8FF-3210-4359-AA5A-EA01969702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3339-ED24-481D-9BD9-50F9314980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E21B-FB82-4543-97B8-011FED36AD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F9DC-2D90-4770-A5F6-2A2CCCF525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B7D4-5072-4CF7-AA22-7E31B2D4D1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F3C1-9B61-4D3F-8D78-772D50F721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D7D-AC99-4AAA-819E-0EA2C2B152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FE0-D54E-458E-9778-F2E4CA077C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5558-D0DB-4710-BBF3-B488FC5577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E0CA-11C2-40AB-8DE1-7A48F414AA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7D1F-BC61-4EC0-8ED7-270448B51B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537-F42A-4100-A944-D8162EE7CE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9AB0-F73A-4D61-A3B9-E98F4ECF61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D974-6BB6-4411-A30D-A08CEF2E15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2EC-9E9F-48F6-B8F2-0ACF6DD6FE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C09-A6FA-4A0B-9BDA-0376A2D2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94E-AFE5-4BC2-8918-6289D44D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8BC-34C8-4A43-83C8-02E105FD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8F3-B5F9-4DDB-9A14-904DB0D7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201-C9A4-4C7C-BDA5-6B2A9420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ED5-1CEE-46F6-ADCC-6ED7AA91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2B1-8528-43A3-B704-7C12F9CF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4E9-E743-490C-B1F7-1E8FED63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F20-6967-44FA-8F2D-722A874B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2EF-F860-4F8A-9668-3BB0C99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FBF-7942-4D15-8CF4-5D23C05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DB1-2B79-4A57-99D0-D8C388FC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8C52-7980-4EB0-862D-5F7449216BC8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2095200" y="6389640"/>
            <a:ext cx="2811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ǒ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바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의문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그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ó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韩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Hánguóré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한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모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의문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805440"/>
            <a:ext cx="63356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zhōngguóré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중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uéshe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日本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Rìběnré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본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美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Měiguóré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미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péngyou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친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体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y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체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体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y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체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音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yu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음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贵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ìx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성함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존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성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什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46560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énm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무엇</a:t>
            </a:r>
            <a:r>
              <a:rPr b="0" lang="en-US" sz="9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무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名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g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认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n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알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高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āoxì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도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역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1:14:24Z</dcterms:created>
  <dc:creator>System</dc:creator>
  <dc:description/>
  <dc:language>en-US</dc:language>
  <cp:lastModifiedBy>System</cp:lastModifiedBy>
  <dcterms:modified xsi:type="dcterms:W3CDTF">2014-01-24T02:35:31Z</dcterms:modified>
  <cp:revision>10</cp:revision>
  <dc:subject/>
  <dc:title>슬라이드 1</dc:title>
</cp:coreProperties>
</file>